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EA6C2-838A-46A5-92E8-73CC1F0F5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5F1B1-0D2E-43D0-94DC-5E461037C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7E998330-27F0-4EC6-9E9E-A4ED050684F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BEAD0560-8F7F-4DCA-A2C7-D9E63301C33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7884FE20-7DC2-4023-AB04-6B7F8F3A531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CF3E351-8F0F-4B39-94A3-4FC5F174163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350F9158-E316-4220-8D08-B75B8E42D1F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DE65E085-0532-4BF7-8680-1CCFA6BAF24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8DDFC16F-3E54-4749-8AEA-33D2255D514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D66AD6F2-9B26-4623-AFE4-69FFCA04D39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407B1587-0F70-4880-9AD5-4D1421E5E21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E8140-A8DA-414F-9F24-E7497EB29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9304A-AE2E-4447-8064-EBEA24F9E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6AE50-56A5-4801-A53B-70B45161D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A188BF-4550-4589-900E-55EF0180D34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A3AAF64-A46C-488F-BF93-6E6A4BE41C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4EFFF616-B961-49A6-BB1B-AB31AD3E184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7750C4EE-BF56-4F4E-9661-32E67562F0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2A30238C-28DA-4DA2-81B6-A8EC9B22B2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EAAB2-C5CA-4A11-82E7-5B98C6CA8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EC8F4351-ED5E-4827-9C3B-B3D5E2BF02D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EDE97F53-0906-4196-8D7F-62BA8F0BF7E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4EB6B7C-6887-411B-8A6B-067103D5B0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0682B8D-55B8-4B30-AC24-4F6590070D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21B39385-D072-49D7-A37E-2F9D417389D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052794A4-8560-4A81-ADC4-478D777200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F4E82E99-1BCB-4BC0-B6E3-4AD705406E6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531F193-C088-416B-8126-87B0D34734E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415F3BB6-5620-4E2F-88D1-97DF083BB22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3808B9B1-0FDD-44BA-9D8D-564142CB3B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D5649-D29B-4E1C-867C-31EF33F33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513B63CD-A484-40A8-B26B-2EC0988E7D6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CF6171F0-174C-42F9-8E88-3FE4AE8A496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389709AE-806C-43AC-B475-6BCD9839CE0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F2769A0-32C4-4C9F-BE0D-5396FB4B04A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652856F-459D-4C05-811B-A0088372952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8DEB78C-2A00-40CF-839E-17764F08A81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E36681E-9590-49F4-9F84-07B914699D3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FE377261-651E-453A-A8C5-248A606AA54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D3A8D490-D7BC-4D56-92C6-00CE0D7CA65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45F17EB-6F77-488A-A0C6-C18119E0F0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56AE9-8EBA-4F2D-ABF6-E3E004D7D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71AF09D-1E59-4463-8FBA-000E724BDC6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0E554110-7F3E-498A-86FD-F52F4BE7D7F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C0998DDF-63FB-4014-87B0-9D5AA0C837D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50922691-323E-4DF9-8EAC-F7C97AD5F31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C6A753B8-FFA4-430A-A5A1-9FC78ABE5CF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BAE22A7-983B-4146-BA72-2776DA35016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02C0DC1-C69B-48ED-B93A-316D74355DB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34A984A-E75B-47AC-BDF3-7B656954A75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302DABC3-60B3-4649-B829-CEE942903A3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998FC224-EE88-4479-A40E-D87C49B94C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E1C0E-0038-4CCB-8756-7349949B7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C27B078F-A80E-4A1F-8517-96BC48D87AA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4D1EF23-569C-4D83-8FBC-BE348D6D3E3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29C6B676-3850-4CA9-B90F-3FBBB9F31DA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F950147D-157C-4619-8916-027BC847640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C5FB0581-6E8B-436A-9230-31127E308DB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C137DE2A-C5D6-4B0A-AE6F-9810140017E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E8062C27-9AB4-41BC-A2D7-115FCA8676C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A9191D89-ABF1-47D4-9A9E-FC07462C3D2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9182E6D-F001-4065-B815-F443369B438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E3485EF-B12C-4247-99C4-1A307135F8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E21EF-618D-4D4C-9FA1-5F54DB6F0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CB8445B6-BCFB-4545-A1F9-6892FDF4793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AB044884-3031-425D-A778-0C648B1E305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ACE1A830-CF99-4879-A3EC-03EF1A3DB50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A0C2FBE-DF00-4026-B960-9094273005D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D121B03A-EAF8-4868-8160-C7E2A107A33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77AF44EA-D1EE-4EF1-9815-39D39B03968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369A219F-500C-4FC9-869B-6062BA31EBF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8B1A301B-5586-46AE-9A69-8B7DF8127D3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D198AB83-B489-49D1-80AC-A8A3DD89FAD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A460C0E1-4ED2-414D-818D-E18D77970E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1637-2929-4A07-A3A4-A3CF0A978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E4DC4BC-9FE7-4D8C-9DD6-D168926815D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D227AF7-0160-4D79-8543-DEC108A77F2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2739096-03E6-43C1-B264-34E398C146C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4E9DA1C4-61BF-4937-958F-6472E840938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6C63B5D9-8F29-4C9E-88CE-9832623720A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E3D3CF0-D277-44CB-BD0E-C7370CFB561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C72538CE-BB46-4B3A-BF63-9F26E21743B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AC754E6C-5A09-43B0-A120-7BCB0E90815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1274986C-5BFB-4ECB-8676-9FAD9FB1CEE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EBEF3651-B28E-4A55-A770-972A6B4145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0B894-61EE-4FEE-887A-BCFDE976C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31F50914-B28C-4F85-B5FF-16244413168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1EA5163-48F8-467F-A163-A720A4A070C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B1316122-812F-4869-9ECD-3FA80A671D4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DF97DE2-A130-4183-8AE5-BC272C73AA1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C4C0B65-EC06-44F5-9CEA-D90DDC96568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9591B023-B176-4B93-9CCB-C85E660D5E0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899BD625-6F09-4FC0-93F9-3818D9DD873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D851CCE-08EC-44DE-93F2-7B91EFF6367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7DF26D01-AC17-4B8A-A5A1-BB5797B39C3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A9359D27-930B-4B46-AEF4-C4B91E05FA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F9BE15F-4EC5-46E8-9ECE-9FB5EB12550C}"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EDE94B5-A88E-4AFC-A2C0-1CF5A862F0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4E561F-BFDC-4C26-A6D6-8DB9CE9BA9E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9A209C4-D10B-4D83-8613-A143A8DBF2D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09C2B84-2ACF-404D-8FAE-162A7F5FD6C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12ED92-9250-4EDA-8EC1-3311B004F7A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CC6B93-2B9C-45B6-BFBD-D65016AA39E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0FADE8-6E19-4E4C-96CC-FB0E8366F3F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54E549A-5A29-4F67-AFBA-43730681F63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178080"/>
            <a:ext cx="7772400" cy="14241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Verdana"/>
                <a:ea typeface="Verdana"/>
              </a:rPr>
              <a:t>Atbalsts dalībai starptautiskās sadarbības programmās pētniecības un tehnoloģiju jomā</a:t>
            </a:r>
            <a:endParaRPr b="0" lang="en-US" sz="2900" spc="-1" strike="noStrike">
              <a:solidFill>
                <a:srgbClr val="000000"/>
              </a:solidFill>
              <a:latin typeface="Times New Roman"/>
            </a:endParaRPr>
          </a:p>
        </p:txBody>
      </p:sp>
      <p:sp>
        <p:nvSpPr>
          <p:cNvPr id="403" name="PlaceHolder 2"/>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Maija Bundule</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Pētniecības Starptautisko programmu nodaļas vadītāja</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Valsts Izglītības attīstības aģentūra</a:t>
            </a:r>
            <a:endParaRPr b="0" lang="en-US" sz="1400" spc="-1" strike="noStrike">
              <a:solidFill>
                <a:srgbClr val="000000"/>
              </a:solidFill>
              <a:latin typeface="Times New Roman"/>
            </a:endParaRPr>
          </a:p>
        </p:txBody>
      </p:sp>
      <p:sp>
        <p:nvSpPr>
          <p:cNvPr id="404" name="PlaceHolder 3"/>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400" spc="-1" strike="noStrike">
              <a:solidFill>
                <a:srgbClr val="000000"/>
              </a:solidFill>
              <a:latin typeface="Verdana"/>
              <a:ea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Projekta attiecināmās izmaksas</a:t>
            </a:r>
            <a:endParaRPr b="0" lang="en-US" sz="2400" spc="-1" strike="noStrike">
              <a:solidFill>
                <a:srgbClr val="000000"/>
              </a:solidFill>
              <a:latin typeface="Times New Roman"/>
            </a:endParaRPr>
          </a:p>
        </p:txBody>
      </p:sp>
      <p:sp>
        <p:nvSpPr>
          <p:cNvPr id="446" name=""/>
          <p:cNvSpPr txBox="1"/>
          <p:nvPr/>
        </p:nvSpPr>
        <p:spPr>
          <a:xfrm>
            <a:off x="1218960" y="1752120"/>
            <a:ext cx="7467480" cy="4373640"/>
          </a:xfrm>
          <a:prstGeom prst="rect">
            <a:avLst/>
          </a:prstGeom>
          <a:noFill/>
          <a:ln w="0">
            <a:noFill/>
          </a:ln>
        </p:spPr>
        <p:txBody>
          <a:bodyPr lIns="93960" rIns="93960" tIns="46800" bIns="46800" anchor="t">
            <a:normAutofit/>
          </a:bodyPr>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tiešās izmaksas</a:t>
            </a:r>
            <a:r>
              <a:rPr b="0" lang="lv-LV" sz="1400" spc="-1" strike="noStrike">
                <a:solidFill>
                  <a:srgbClr val="404040"/>
                </a:solidFill>
                <a:latin typeface="Verdana"/>
                <a:ea typeface="Verdana"/>
              </a:rPr>
              <a:t>:</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ā nodarbinātā personāla atlīdzība saskaņā ar šādām stundas likmēm:</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zinātniskajām vadītājam – līdz 20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galvenajam izpildītājam – līdz 16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izpildītājam – līdz 14 EUR stundā.</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Zinātniskā aprīkojuma un iekārtu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Ēku un zemes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Līgumpētījumu, konsultantu pakalpojumu izmaksas, patentu iegādes izmaksas – nepārsniedzot 25% no projekta kopējām attiecināmajām izmaksām;</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Maksa par materiāliem, inventāru un instrumentiem, ciktāl tos izmanto projektā, to iegādes un piegāde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atentu vai cita rūpnieciskā īpašuma tiesību iegūšanas, apstiprināšanas un aizstāvēšana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ārējā audita izmaksas (ja nepieciešams);</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netiešās izmaksas</a:t>
            </a:r>
            <a:r>
              <a:rPr b="0" lang="lv-LV" sz="1400" spc="-1" strike="noStrike">
                <a:solidFill>
                  <a:srgbClr val="404040"/>
                </a:solidFill>
                <a:latin typeface="Verdana"/>
                <a:ea typeface="Verdana"/>
              </a:rPr>
              <a:t>, kas nepārsniedz 25% no projekta tiešo izmaksu summas, kurā nav ieskaitītas ārpakalpojumu izmaksas. </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9F0E554-C991-4D91-86CF-EBBD6268CD8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s dalībai COST akcijā</a:t>
            </a:r>
            <a:endParaRPr b="0" lang="en-US" sz="2400" spc="-1" strike="noStrike">
              <a:solidFill>
                <a:srgbClr val="000000"/>
              </a:solidFill>
              <a:latin typeface="Times New Roman"/>
            </a:endParaRPr>
          </a:p>
        </p:txBody>
      </p:sp>
      <p:sp>
        <p:nvSpPr>
          <p:cNvPr id="451" name=""/>
          <p:cNvSpPr txBox="1"/>
          <p:nvPr/>
        </p:nvSpPr>
        <p:spPr>
          <a:xfrm>
            <a:off x="1349280" y="1752120"/>
            <a:ext cx="733752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Var piešķirt valsts līdzfinansējumu bet ne vairāk kā 2 200 EUR gadā (izņemot izmaksas, kas saistītas ar COST akcijas ietvaros plānoto starptautisko pasākumu organizēšanu Latvijā un to norisi) šādu izdevumu segšanai:</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1. dalībai COST akcijas vadības komitejas sanāksmēs tiem speciālistiem, kuri nav apstiprināti kā Latvijas pārstāvji akcijas vadības komitejā;</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2. dalībai COST akcijas darba grupu sēdē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3. dalībai COST akcijas ietvaros organizētajos pasākumos (konferencēs, semināros un apmācības pasākumo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ietvaros plānotu starptautisku pasākumu norisei Latvijā; </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koordinatora funkciju izpildei, līdzfinansējot šīs aktivitātes administrēšanas izdevumu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341CF65-1D86-4174-AE6B-9FE80A5B212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regulējums</a:t>
            </a:r>
            <a:endParaRPr b="0" lang="en-US" sz="2400" spc="-1" strike="noStrike">
              <a:solidFill>
                <a:srgbClr val="000000"/>
              </a:solidFill>
              <a:latin typeface="Times New Roman"/>
            </a:endParaRPr>
          </a:p>
        </p:txBody>
      </p:sp>
      <p:sp>
        <p:nvSpPr>
          <p:cNvPr id="406" name=""/>
          <p:cNvSpPr txBox="1"/>
          <p:nvPr/>
        </p:nvSpPr>
        <p:spPr>
          <a:xfrm>
            <a:off x="2590560" y="1752120"/>
            <a:ext cx="609588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Ministru kabineta 2015.gada 26.maija noteikumi nr.259 «Atbalsta piešķiršanas kārtība dalībai starptautiskās sadarbības programmās pētniecības un tehnoloģiju jomā»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Finansējums no valsts budžeta apakšprogrammas 70.06.00 «Dalība Eiropas Savienības pētniecības un tehnoloģiju attīstības programmā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0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DAF9CCB-21C7-4295-A4F2-92E5593BAF7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piešķirt</a:t>
            </a:r>
            <a:endParaRPr b="0" lang="en-US" sz="2400" spc="-1" strike="noStrike">
              <a:solidFill>
                <a:srgbClr val="000000"/>
              </a:solidFill>
              <a:latin typeface="Times New Roman"/>
            </a:endParaRPr>
          </a:p>
        </p:txBody>
      </p:sp>
      <p:sp>
        <p:nvSpPr>
          <p:cNvPr id="411" name=""/>
          <p:cNvSpPr txBox="1"/>
          <p:nvPr/>
        </p:nvSpPr>
        <p:spPr>
          <a:xfrm>
            <a:off x="1584000" y="1752120"/>
            <a:ext cx="7102440" cy="4373640"/>
          </a:xfrm>
          <a:prstGeom prst="rect">
            <a:avLst/>
          </a:prstGeom>
          <a:noFill/>
          <a:ln w="0">
            <a:noFill/>
          </a:ln>
        </p:spPr>
        <p:txBody>
          <a:bodyPr lIns="93960" rIns="93960" tIns="46800" bIns="46800" anchor="t">
            <a:normAutofit/>
          </a:bodyPr>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7.Ietvara programma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ētniecības un inovāciju atbalsta programmas Apvārsnis 2020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alībvalsti kopīgo programmu (LESD 185.pant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Kopējo tehnoloģiju ierosmju (LESD 187.pants)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700" spc="-1" strike="noStrike">
                <a:solidFill>
                  <a:srgbClr val="404040"/>
                </a:solidFill>
                <a:latin typeface="Verdana"/>
                <a:ea typeface="Verdana"/>
              </a:rPr>
              <a:t>Fusion for Energy</a:t>
            </a:r>
            <a:r>
              <a:rPr b="0" lang="lv-LV" sz="1700" spc="-1" strike="noStrike">
                <a:solidFill>
                  <a:srgbClr val="404040"/>
                </a:solidFill>
                <a:latin typeface="Verdana"/>
                <a:ea typeface="Verdana"/>
              </a:rPr>
              <a:t> (ITER projekts) kopuzņēmuma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URATOM programmas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COST aktivitātē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RA-NET, ERA-NET Plus un ERA-NET COFUND ietvaros atbalstīt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i ERIC </a:t>
            </a:r>
            <a:r>
              <a:rPr b="0" i="1" lang="lv-LV" sz="1700" spc="-1" strike="noStrike">
                <a:solidFill>
                  <a:srgbClr val="404040"/>
                </a:solidFill>
                <a:latin typeface="Verdana"/>
                <a:ea typeface="Verdana"/>
              </a:rPr>
              <a:t>European Social Survey </a:t>
            </a:r>
            <a:r>
              <a:rPr b="0" lang="lv-LV" sz="1700" spc="-1" strike="noStrike">
                <a:solidFill>
                  <a:srgbClr val="404040"/>
                </a:solidFill>
                <a:latin typeface="Verdana"/>
                <a:ea typeface="Verdana"/>
              </a:rPr>
              <a:t>pētījuma posmos</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s maksas starptautisko programmu konsorcijos, t.sk. Eiropas Akadēmiskajā tīklā GEANT, nodrošinot tam Latvijas pieslēgumu  </a:t>
            </a:r>
            <a:endParaRPr b="0" lang="en-US" sz="1700" spc="-1" strike="noStrike">
              <a:solidFill>
                <a:srgbClr val="000000"/>
              </a:solidFill>
              <a:latin typeface="Times New Roman"/>
            </a:endParaRPr>
          </a:p>
          <a:p>
            <a:pPr marL="90360" indent="-90360">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1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5D3B45F-8075-4119-8DD4-4534B02725F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apmērs</a:t>
            </a:r>
            <a:endParaRPr b="0" lang="en-US" sz="2400" spc="-1" strike="noStrike">
              <a:solidFill>
                <a:srgbClr val="000000"/>
              </a:solidFill>
              <a:latin typeface="Times New Roman"/>
            </a:endParaRPr>
          </a:p>
        </p:txBody>
      </p:sp>
      <p:sp>
        <p:nvSpPr>
          <p:cNvPr id="416" name=""/>
          <p:cNvSpPr txBox="1"/>
          <p:nvPr/>
        </p:nvSpPr>
        <p:spPr>
          <a:xfrm>
            <a:off x="1436400" y="1684080"/>
            <a:ext cx="68454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saskaņā ar projekta izdevumu plānojum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bilstoši attiecīgās programmas nosacījum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nepārsniedz vienu miljonu EUR/gadā vienam projektam.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1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E5E2701-767C-4F93-900D-7AE600314C4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saņemt</a:t>
            </a:r>
            <a:endParaRPr b="0" lang="en-US" sz="2400" spc="-1" strike="noStrike">
              <a:solidFill>
                <a:srgbClr val="000000"/>
              </a:solidFill>
              <a:latin typeface="Times New Roman"/>
            </a:endParaRPr>
          </a:p>
        </p:txBody>
      </p:sp>
      <p:sp>
        <p:nvSpPr>
          <p:cNvPr id="421" name=""/>
          <p:cNvSpPr txBox="1"/>
          <p:nvPr/>
        </p:nvSpPr>
        <p:spPr>
          <a:xfrm>
            <a:off x="1463760" y="1752120"/>
            <a:ext cx="7223040" cy="4373640"/>
          </a:xfrm>
          <a:prstGeom prst="rect">
            <a:avLst/>
          </a:prstGeom>
          <a:noFill/>
          <a:ln w="0">
            <a:noFill/>
          </a:ln>
        </p:spPr>
        <p:txBody>
          <a:bodyPr lIns="93960" rIns="93960" tIns="46800" bIns="46800" anchor="t">
            <a:normAutofit/>
          </a:bodyPr>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Izglītības un zinātnes ministrijas Zinātnisko institūciju reģistrā reģistrēta zinātniskā institūcija;</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Uzņēmums (mikro, mazais, vidējais, lielais) kas reģistrēts Uzņēmumu reģistrā;</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ja ir noslēgts līgums ar Eiropas Komis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līgums ar Latvijas Zinātņu akadēm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tiek slēgts līgums ar Valsts izglītības attīstības aģentūru par projekta īstenošanu.</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616818-819C-4410-B3F1-48E38C66A4F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386080" y="380880"/>
            <a:ext cx="630072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 -1</a:t>
            </a:r>
            <a:endParaRPr b="0" lang="en-US" sz="2400" spc="-1" strike="noStrike">
              <a:solidFill>
                <a:srgbClr val="000000"/>
              </a:solidFill>
              <a:latin typeface="Times New Roman"/>
            </a:endParaRPr>
          </a:p>
        </p:txBody>
      </p:sp>
      <p:sp>
        <p:nvSpPr>
          <p:cNvPr id="426" name=""/>
          <p:cNvSpPr txBox="1"/>
          <p:nvPr/>
        </p:nvSpPr>
        <p:spPr>
          <a:xfrm>
            <a:off x="914400" y="1752120"/>
            <a:ext cx="7772400" cy="4373640"/>
          </a:xfrm>
          <a:prstGeom prst="rect">
            <a:avLst/>
          </a:prstGeom>
          <a:noFill/>
          <a:ln w="0">
            <a:noFill/>
          </a:ln>
        </p:spPr>
        <p:txBody>
          <a:bodyPr lIns="93960" rIns="93960" tIns="46800" bIns="46800" anchor="t">
            <a:normAutofit/>
          </a:bodyPr>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Atbalsta pretendentam ir noteiktas šādas prasība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1. tas tieši atbild par projekta sagatavošanu un izpildi;</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2. tam ir pieejami stabili un pietiekami finanšu līdzekļi, atbilstošs pētnieciskais un tehniskais personāls (laboranti un tehniķi), kā arī projekta īstenošanai nepieciešamais materiāltehniskais nodrošinājum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3. neattiecas neizpildīts līdzekļu atgūšanas rīkojums atbilstoši regulas Nr. 651/2014 1. panta 4. punkta "a" apakšpunktam, ja viņš pretendē uz valsts atbalst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4. saskaņā ar Valsts ieņēmumu dienesta administrēto nodokļu (nodevu) parādnieku datubāzē pieejamo informāciju nav nodokļu vai nodevu parād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5. tam nav ar tiesas nolēmumu pasludināts 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6. tas nav sodīts par Latvijas Administratīvo pārkāpumu kodeksa 189.</a:t>
            </a:r>
            <a:r>
              <a:rPr b="0" lang="lv-LV" sz="1300" spc="-1" strike="noStrike" baseline="30000">
                <a:solidFill>
                  <a:srgbClr val="000000"/>
                </a:solidFill>
                <a:latin typeface="Verdana"/>
                <a:ea typeface="Verdana"/>
              </a:rPr>
              <a:t>2</a:t>
            </a:r>
            <a:r>
              <a:rPr b="0" lang="lv-LV" sz="1300" spc="-1" strike="noStrike">
                <a:solidFill>
                  <a:srgbClr val="000000"/>
                </a:solidFill>
                <a:latin typeface="Verdana"/>
                <a:ea typeface="Verdana"/>
              </a:rPr>
              <a:t> panta trešajā daļā minēto administratīvo pārkāpumu vai tam nav piemēroti piespiedu ietekmēšanas līdzekļi par Krimināllikuma 280. panta otrajā daļā minētā noziedzīgā nodarījuma izdarīšan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7. ja tiek saņemts valsts atbalsts, tas nav grūtībās nonācis uzņēmums atbilstoši regulas Nr. 651/2014 2. panta 18. punkta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8. tas nav saņēmis vai neplāno saņemt par tām pašām projekta attiecināmajām izmaksām finansējumu no citiem Eiropas Savienības finanšu avotiem vai citiem finanšu resursie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9. uzņēmums ir iesniedzis finanšu pārskatus par diviem pēdējiem noslēgtajiem saimnieciskajiem gadiem.</a:t>
            </a:r>
            <a:endParaRPr b="0" lang="en-US" sz="1300" spc="-1" strike="noStrike">
              <a:solidFill>
                <a:srgbClr val="000000"/>
              </a:solidFill>
              <a:latin typeface="Times New Roman"/>
            </a:endParaRPr>
          </a:p>
          <a:p>
            <a:pPr>
              <a:lnSpc>
                <a:spcPct val="80000"/>
              </a:lnSpc>
              <a:spcBef>
                <a:spcPts val="32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300" spc="-1" strike="noStrike">
              <a:solidFill>
                <a:srgbClr val="000000"/>
              </a:solidFill>
              <a:latin typeface="Times New Roman"/>
            </a:endParaRPr>
          </a:p>
        </p:txBody>
      </p:sp>
      <p:sp>
        <p:nvSpPr>
          <p:cNvPr id="42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5095726-C52E-479D-B992-4F07616DABF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2</a:t>
            </a:r>
            <a:endParaRPr b="0" lang="en-US" sz="2400" spc="-1" strike="noStrike">
              <a:solidFill>
                <a:srgbClr val="000000"/>
              </a:solidFill>
              <a:latin typeface="Times New Roman"/>
            </a:endParaRPr>
          </a:p>
        </p:txBody>
      </p:sp>
      <p:sp>
        <p:nvSpPr>
          <p:cNvPr id="431" name=""/>
          <p:cNvSpPr txBox="1"/>
          <p:nvPr/>
        </p:nvSpPr>
        <p:spPr>
          <a:xfrm>
            <a:off x="948960" y="1752120"/>
            <a:ext cx="7737480" cy="4373640"/>
          </a:xfrm>
          <a:prstGeom prst="rect">
            <a:avLst/>
          </a:prstGeom>
          <a:noFill/>
          <a:ln w="0">
            <a:noFill/>
          </a:ln>
        </p:spPr>
        <p:txBody>
          <a:bodyPr lIns="93960" rIns="93960" tIns="46800" bIns="46800" anchor="t">
            <a:normAutofit/>
          </a:bodyPr>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3. atbalsta pretendents - pētniecības organizācija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4. ja pretendē uz valsts atbalstu, tas iesniedz informāciju par atbalsta stimulējošo ietekmi atbilstoši regulas Nr. 651/2014 6. panta 2. punktam (ja attiecināms);</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5. atbalsta pretendents - pētniecības organizācija, saņemot valsts atbalstu,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6651582-09BE-4767-B3DF-B45C3AA4523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intensitāte -1</a:t>
            </a:r>
            <a:endParaRPr b="0" lang="en-US" sz="2400" spc="-1" strike="noStrike">
              <a:solidFill>
                <a:srgbClr val="000000"/>
              </a:solidFill>
              <a:latin typeface="Times New Roman"/>
            </a:endParaRPr>
          </a:p>
        </p:txBody>
      </p:sp>
      <p:sp>
        <p:nvSpPr>
          <p:cNvPr id="436" name=""/>
          <p:cNvSpPr txBox="1"/>
          <p:nvPr/>
        </p:nvSpPr>
        <p:spPr>
          <a:xfrm>
            <a:off x="1131840" y="1752120"/>
            <a:ext cx="7554960" cy="4373640"/>
          </a:xfrm>
          <a:prstGeom prst="rect">
            <a:avLst/>
          </a:prstGeom>
          <a:noFill/>
          <a:ln w="0">
            <a:noFill/>
          </a:ln>
        </p:spPr>
        <p:txBody>
          <a:bodyPr lIns="93960" rIns="93960" tIns="46800" bIns="46800" anchor="t">
            <a:normAutofit/>
          </a:bodyPr>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 </a:t>
            </a:r>
            <a:r>
              <a:rPr b="0" lang="lv-LV" sz="1700" spc="-1" strike="noStrike">
                <a:solidFill>
                  <a:srgbClr val="000000"/>
                </a:solidFill>
                <a:latin typeface="Verdana"/>
                <a:ea typeface="Verdana"/>
              </a:rPr>
              <a:t>atbilstoši Eiropas Komisijas 2014.gada 14.jūnija Regulas (ES) Nr.651/2014 ar ko noteiktas atbalsta kategorijas atzītas par saderīgām ar iekšējo tirgu, piemērojot Līguma 107. un 108.pantu;</a:t>
            </a: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Atbalsta intensitāte katram atbalsta saņēmējam nepārsniedz:</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fundamentāliem pētījumiem  - 10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Rūpnieciskajiem pētījumiem –  5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Eksperimentālajai izstrādei – 25%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Mikro, maziem un vidējiem uzņēmumiem atbalsta intensitāte rūpniecisko pētījumu un eksperimentālās izstrādes gadījumā var tikt palielināta, bet tā nepārsniedz 80% no projekta attiecināmajām izmaksām.  </a:t>
            </a:r>
            <a:endParaRPr b="0" lang="en-US" sz="1700" spc="-1" strike="noStrike">
              <a:solidFill>
                <a:srgbClr val="000000"/>
              </a:solidFill>
              <a:latin typeface="Times New Roman"/>
            </a:endParaRPr>
          </a:p>
          <a:p>
            <a:pPr>
              <a:lnSpc>
                <a:spcPct val="9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CC76D56-F37E-4F30-B217-A5CCFCA6C43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Atbalsta intensitāte -2</a:t>
            </a:r>
            <a:endParaRPr b="0" lang="en-US" sz="2400" spc="-1" strike="noStrike">
              <a:solidFill>
                <a:srgbClr val="000000"/>
              </a:solidFill>
              <a:latin typeface="Times New Roman"/>
            </a:endParaRPr>
          </a:p>
        </p:txBody>
      </p:sp>
      <p:sp>
        <p:nvSpPr>
          <p:cNvPr id="441" name=""/>
          <p:cNvSpPr txBox="1"/>
          <p:nvPr/>
        </p:nvSpPr>
        <p:spPr>
          <a:xfrm>
            <a:off x="1201680" y="1752120"/>
            <a:ext cx="7485120" cy="4373640"/>
          </a:xfrm>
          <a:prstGeom prst="rect">
            <a:avLst/>
          </a:prstGeom>
          <a:noFill/>
          <a:ln w="0">
            <a:noFill/>
          </a:ln>
        </p:spPr>
        <p:txBody>
          <a:bodyPr lIns="93960" rIns="93960" tIns="46800" bIns="46800" anchor="t">
            <a:normAutofit/>
          </a:bodyPr>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Valsts atbalsta intensitāti var palielināt: </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1. 10% apmērā no projekta attiecināmajām izmaksām, ja atbalstu piešķir atbalsta pretendentam, kas ir vidējais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2. 20%  apmērā no projekta attiecināmajām izmaksām, ja atbalstu piešķir atbalsta pretendentam, kas ir mazais (mikro)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3. 15%  apmērā no projekta attiecināmajām izmaksām papildus 1. vai 2.punktā norādītajam apmēram, ja:</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s paredz efektīvu sadarbību kādā no šādiem gadījumiem:</a:t>
            </a:r>
            <a:endParaRPr b="0" lang="en-US" sz="16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starp uzņēmumiem, no kuriem vismaz viens ir sīkais (mikro), mazais vai vidējais uzņēmums, </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i projektu īsteno vismaz divās valstīs un neviens atsevišķs uzņēmums nesedz vairāk kā 70% no projekta attiecināmajām izmaksām;</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starp uzņēmumu un vienu vai vairākām pētniecības organizācijām, kuras sedz vismaz 10% no projekta attiecināmajām izmaksām un kurām ir tiesības publicēt projektā veikto pētījumu rezultātus;</a:t>
            </a:r>
            <a:endParaRPr b="0" lang="en-US" sz="14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a rezultātus izplata tehniskajās un zinātniskajās konferencēs vai publicē zinātnes vai tehnikas izdevumos, publiski pieejamās datubāzēs vai atvērtā pirmkoda programmatūras veidā.</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1C85D2-DCC7-4608-85E0-08CED476F07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Maija Bundule</cp:lastModifiedBy>
  <dcterms:modified xsi:type="dcterms:W3CDTF">2016-05-12T13:53:00Z</dcterms:modified>
  <cp:revision>16</cp:revision>
  <dc:subject/>
  <dc:title>PowerPoint Presentation</dc:title>
</cp:coreProperties>
</file>